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314-D454-4A75-A899-E3727017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385-6474-47E5-A544-CDFD9007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F90-DD01-40F6-A6D0-2B30E7D8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5DA-E84E-4E28-A77D-65715344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8DC-E1AB-4336-9E80-6DBC6FCB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C33-4208-4B6F-BC80-1F29CE68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BB0-6035-4974-888A-33AE9AFC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DDF-758E-492A-97A7-0A9835E7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0DC-FA65-4927-BF1D-23773914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DA6-D7AD-46C2-9067-65659E30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A94-1F97-43DE-826B-69635613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188-1E46-4908-9B94-8266D4B8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E88E5-AC70-4527-B98A-37F7234EAB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4FCFF-B564-463D-BAC7-F4071B8F9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youtube.com/watch?v=SjozP5DrtDU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 V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C:\Users\Gareth\AppData\Local\Microsoft\Windows\Temporary Internet Files\Content.IE5\U4571BIX\MCj00845860000[1].wmf"/>
          <p:cNvPicPr/>
          <p:nvPr/>
        </p:nvPicPr>
        <p:blipFill>
          <a:blip r:embed="rId1"/>
          <a:stretch/>
        </p:blipFill>
        <p:spPr>
          <a:xfrm>
            <a:off x="2286000" y="3500280"/>
            <a:ext cx="4672080" cy="2454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200400" y="1143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partan School Mus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ever when it came to Athens and Sparta against each other…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parta won!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ut, they did not take over Athens they said they would not burn it as long as Athens promised not to  keep trying to take over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thens was therefore left as it was and even now is one of the most famous cities in the worl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Athens and Sparta were probably the two most famous and powerful city states in Ancient Greec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However, they were both very differ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 v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thens’ Government ruled as a democracy. They were th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to ever do th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parta’s Government ruled as an oligarchy  by 2 K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oth Athens’ and Sparta’s governments were elected by the peop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 v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Athens is built below the acropolis which stands on a hill above all of Ath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parta is surrounded by mountains, which makes it difficult for it to be inva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Athens was a very creative city st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hey believed in a good education. (for boy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You could go into the army or navy if you wanted to. (if you were a bo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parta was very focused on obedience and war and the people did not have any luxur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oys did not have to work or be educated but trained to be warriors from a young 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oys had to join the Spartan ar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irls were not regarded as important by the Atheni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irls could be taught at home. (if they had rich par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irls were not allowed to take part in anything to do with war, business or edu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irls in Sparta were to grow up to be the mothers of warri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Although they were not allowed to fight, girls took part in all the training because healthy ladies produced healthy babies, who would f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thens v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thens and Sparta had very different ways of living their l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thens wanted to control as much land as possible and this led to much war between Greek l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parta, although more powerful kept itself to itself unless their army w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2:01:47Z</dcterms:created>
  <dc:creator>IT User</dc:creator>
  <dc:description/>
  <dc:language>en-US</dc:language>
  <cp:lastModifiedBy>IT User</cp:lastModifiedBy>
  <dcterms:modified xsi:type="dcterms:W3CDTF">2010-12-08T12:02:33Z</dcterms:modified>
  <cp:revision>1</cp:revision>
  <dc:subject/>
  <dc:title>Athens V Sparta</dc:title>
</cp:coreProperties>
</file>